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5604E-3CCE-401C-8EC5-94EA10F4DC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07ECC-C2F0-4807-AC1E-5F491FFB7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each tool and practice finding the most important direction in each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09034-E4A9-46A3-AA5A-640A950AE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E96A0-D991-42D6-8EF6-932A5D3B2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89878-CC19-41A8-BC98-F60CF8D72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8B877-ABA8-4994-8A92-D71615C24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97EB0-AF9C-4C75-A71C-216B225FE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1F1-6453-4CB1-A17B-248365DE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0DA-A7F0-4E5A-965E-68BE893B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068-6A7B-4FE5-AE33-DD9E7C86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577-3D05-4D35-9382-EE04023C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282-44AF-42AD-982B-769D04B1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283-25AF-4C09-BFDF-C1F6F3A1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275-4C2E-489F-A588-064C1753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DC0-862E-4178-9E21-70B4CDA3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0AF-A94D-46CC-ABEB-AEA85333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F18-315E-433E-B9C1-93F03FFB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BE5-01B1-4233-8381-E7F4F612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64F-A1E2-44CE-9737-22C28C2E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5D965-CD52-4343-A23A-D6E26D8FEC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F172B-863D-44AA-B1B9-C9C64764C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tting Ready fo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mergent Literacy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1360" y="744480"/>
            <a:ext cx="8832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97000" y="254160"/>
          <a:ext cx="85518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68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betic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1:21:04Z</dcterms:created>
  <dc:creator>Rafferty Michael</dc:creator>
  <dc:description/>
  <dc:language>en-US</dc:language>
  <cp:lastModifiedBy>Rafferty Michael</cp:lastModifiedBy>
  <cp:lastPrinted>2010-09-15T02:20:20Z</cp:lastPrinted>
  <dcterms:modified xsi:type="dcterms:W3CDTF">2010-09-15T02:20:32Z</dcterms:modified>
  <cp:revision>57</cp:revision>
  <dc:subject/>
  <dc:title>RDG 568 Practicum in Reading</dc:title>
</cp:coreProperties>
</file>